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1FE4-5A84-498F-97E6-205223585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B400-1B3B-4F09-9CF2-497570F7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B9D2-D8EC-4A7A-981A-FA301B194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C9A-0C52-44B5-A85D-E182B958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994A-53BD-4480-BB11-60019BFF6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C3CA-57BC-4520-9F15-1B2DD2E8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D8A7-32D6-418B-BDCA-9EF9E312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C08B-9DA7-4534-96E6-C4EAAB6A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5ED7-5A56-46DE-A1C0-B4A11B50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FE81-0558-48CE-BD1F-D8CA7696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7D09-B144-4EF7-AE0E-15056295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E503-C8A6-43ED-8260-8451DEDF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986D-E27A-4F88-9D5D-12F8D503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BC31-3CD6-4A9B-9441-242CDF34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38BE-F502-4285-85FB-BF2040F9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D540-3C6C-40F8-8D5C-3775E325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1400" y="190476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1400" y="4092840"/>
            <a:ext cx="257760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5229-EA78-4233-A131-ABE8CD962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26B5-E530-409E-A9FF-E01186C4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2B6F-2BA6-4255-90A6-023D7802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77C-47A8-46EB-B2D2-201E7B1C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3000"/>
            <a:ext cx="83836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2F97-8363-4852-A0A5-80A20AE1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D0E6-07FB-40A3-8E0E-7C6CC6F4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0280" y="409284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87A2-AA28-4530-8F70-A5164303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280" y="1904760"/>
            <a:ext cx="390672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2840"/>
            <a:ext cx="8006040" cy="199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459-1BFF-4E70-A479-D2D3EB59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2D34B2-B7D6-49EB-8201-4B71942198A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36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6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1904760"/>
            <a:ext cx="7770600" cy="173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720" y="6245280"/>
            <a:ext cx="19000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2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AFDA9-17A1-4817-A575-4FDA6F45FD7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5400" spc="-1" strike="noStrike">
                <a:solidFill>
                  <a:srgbClr val="ffffb7"/>
                </a:solidFill>
                <a:latin typeface="Tahoma"/>
              </a:rPr>
              <a:t>Biomimicry:</a:t>
            </a:r>
            <a:br>
              <a:rPr sz="5400"/>
            </a:br>
            <a:r>
              <a:rPr b="1" lang="en-GB" sz="4000" spc="-1" strike="noStrike">
                <a:solidFill>
                  <a:srgbClr val="ffffb7"/>
                </a:solidFill>
                <a:latin typeface="Tahoma"/>
              </a:rPr>
              <a:t>Integration Not Degradatio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ffffb7"/>
                </a:solidFill>
                <a:latin typeface="Tahoma"/>
              </a:rPr>
              <a:t>Presented By: Sara Wing, Jenny Lee, Lea Malewitz, Tommy C., Hannah N., Kate H., Ilya A., Brandon I., Nick B., Ari R</a:t>
            </a:r>
            <a:r>
              <a:rPr b="0" lang="en-GB" sz="3200" spc="-1" strike="noStrike">
                <a:solidFill>
                  <a:srgbClr val="ffffb7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90720" y="817560"/>
            <a:ext cx="7238880" cy="5049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914400" y="6019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b7"/>
                </a:solidFill>
                <a:latin typeface="Tahoma"/>
              </a:rPr>
              <a:t>http://money.cnn.com/galleries/2007/autos/0702/gallery.future_safety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88720"/>
            <a:ext cx="8385120" cy="13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7720" y="1904760"/>
            <a:ext cx="8007480" cy="4190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5639040" cy="5638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1676520" y="60958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b7"/>
                </a:solidFill>
                <a:latin typeface="Tahoma"/>
              </a:rPr>
              <a:t>By: Text editing of Jenny , Lea, and S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000" spc="-1" strike="noStrike">
                <a:solidFill>
                  <a:srgbClr val="ffffb7"/>
                </a:solidFill>
                <a:latin typeface="Tahoma"/>
                <a:ea typeface="Tahmo"/>
              </a:rPr>
              <a:t>Acciording to the Nine Principles of Nature for biomimicry applications, </a:t>
            </a:r>
            <a:r>
              <a:rPr b="0" i="1" lang="en-GB" sz="3000" spc="-1" strike="noStrike">
                <a:solidFill>
                  <a:srgbClr val="ffffb7"/>
                </a:solidFill>
                <a:latin typeface="Tahoma"/>
                <a:ea typeface="Tahmo"/>
              </a:rPr>
              <a:t>Nature…</a:t>
            </a:r>
            <a:br>
              <a:rPr sz="2200"/>
            </a:b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55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6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b7"/>
                </a:solidFill>
                <a:latin typeface="Tahoma"/>
              </a:rPr>
              <a:t>1. Runs on sunlight</a:t>
            </a:r>
            <a:br>
              <a:rPr sz="2400"/>
            </a:br>
            <a:r>
              <a:rPr b="1" lang="en-GB" sz="2400" spc="-1" strike="noStrike">
                <a:solidFill>
                  <a:srgbClr val="ffffb7"/>
                </a:solidFill>
                <a:latin typeface="Tahoma"/>
              </a:rPr>
              <a:t>2. Uses only the energy it needs</a:t>
            </a:r>
            <a:br>
              <a:rPr sz="2400"/>
            </a:br>
            <a:r>
              <a:rPr b="1" lang="en-GB" sz="2400" spc="-1" strike="noStrike">
                <a:solidFill>
                  <a:srgbClr val="ffffb7"/>
                </a:solidFill>
                <a:latin typeface="Tahoma"/>
              </a:rPr>
              <a:t>3. Fits form to function</a:t>
            </a:r>
            <a:br>
              <a:rPr sz="2400"/>
            </a:br>
            <a:r>
              <a:rPr b="1" lang="en-GB" sz="2400" spc="-1" strike="noStrike">
                <a:solidFill>
                  <a:srgbClr val="ffffb7"/>
                </a:solidFill>
                <a:latin typeface="Tahoma"/>
              </a:rPr>
              <a:t>4. Recycles everything</a:t>
            </a:r>
            <a:br>
              <a:rPr sz="2400"/>
            </a:br>
            <a:r>
              <a:rPr b="1" lang="en-GB" sz="2400" spc="-1" strike="noStrike">
                <a:solidFill>
                  <a:srgbClr val="ffffb7"/>
                </a:solidFill>
                <a:latin typeface="Tahoma"/>
              </a:rPr>
              <a:t>5. Rewards cooperation</a:t>
            </a:r>
            <a:br>
              <a:rPr sz="2400"/>
            </a:br>
            <a:r>
              <a:rPr b="1" lang="en-GB" sz="2400" spc="-1" strike="noStrike">
                <a:solidFill>
                  <a:srgbClr val="ffffb7"/>
                </a:solidFill>
                <a:latin typeface="Tahoma"/>
              </a:rPr>
              <a:t>6. Banks on diversity</a:t>
            </a:r>
            <a:br>
              <a:rPr sz="2400"/>
            </a:br>
            <a:r>
              <a:rPr b="1" lang="en-GB" sz="2400" spc="-1" strike="noStrike">
                <a:solidFill>
                  <a:srgbClr val="ffffb7"/>
                </a:solidFill>
                <a:latin typeface="Tahoma"/>
              </a:rPr>
              <a:t>7. Demands local expertise</a:t>
            </a:r>
            <a:br>
              <a:rPr sz="2400"/>
            </a:br>
            <a:r>
              <a:rPr b="1" lang="en-GB" sz="2400" spc="-1" strike="noStrike">
                <a:solidFill>
                  <a:srgbClr val="ffffb7"/>
                </a:solidFill>
                <a:latin typeface="Tahoma"/>
              </a:rPr>
              <a:t>8. Curbs excesses from within</a:t>
            </a:r>
            <a:br>
              <a:rPr sz="2400"/>
            </a:br>
            <a:r>
              <a:rPr b="1" lang="en-GB" sz="2400" spc="-1" strike="noStrike">
                <a:solidFill>
                  <a:srgbClr val="ffffb7"/>
                </a:solidFill>
                <a:latin typeface="Tahoma"/>
              </a:rPr>
              <a:t>9. Taps the power of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24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br>
              <a:rPr sz="2800"/>
            </a:br>
            <a:r>
              <a:rPr b="1" i="1" lang="en-GB" sz="2800" spc="-1" strike="noStrike">
                <a:solidFill>
                  <a:srgbClr val="ffffb7"/>
                </a:solidFill>
                <a:latin typeface="Tahoma"/>
              </a:rPr>
              <a:t>"Our greatest responsibility is to be good ancestors." </a:t>
            </a:r>
            <a:br>
              <a:rPr sz="2800"/>
            </a:br>
            <a:br>
              <a:rPr sz="2800"/>
            </a:br>
            <a:r>
              <a:rPr b="1" i="1" lang="en-GB" sz="2800" spc="-1" strike="noStrike">
                <a:solidFill>
                  <a:srgbClr val="ffffb7"/>
                </a:solidFill>
                <a:latin typeface="Tahoma"/>
              </a:rPr>
              <a:t>	</a:t>
            </a:r>
            <a:r>
              <a:rPr b="1" i="1" lang="en-GB" sz="2800" spc="-1" strike="noStrike">
                <a:solidFill>
                  <a:srgbClr val="ffffb7"/>
                </a:solidFill>
                <a:latin typeface="Tahoma"/>
              </a:rPr>
              <a:t>- Jonas Salk - inventor of the polio vaccine.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43873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5181480" cy="6080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 rot="1080000">
            <a:off x="6019920" y="1371600"/>
            <a:ext cx="281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99ccff"/>
                </a:solidFill>
                <a:latin typeface="Tahoma"/>
              </a:rPr>
              <a:t>Janine</a:t>
            </a:r>
            <a:r>
              <a:rPr b="0" lang="en-GB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6000" spc="-1" strike="noStrike">
                <a:solidFill>
                  <a:srgbClr val="99ccff"/>
                </a:solidFill>
                <a:latin typeface="Tahoma"/>
              </a:rPr>
              <a:t>Beny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3244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b7"/>
                </a:solidFill>
                <a:latin typeface="Tahoma"/>
              </a:rPr>
              <a:t>www.naturaledgeproject.n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49040"/>
            <a:ext cx="77724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49520"/>
            <a:ext cx="8229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743200" y="457200"/>
            <a:ext cx="36576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1949040"/>
            <a:ext cx="77724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49520"/>
            <a:ext cx="8229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949040"/>
            <a:ext cx="777240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649520"/>
            <a:ext cx="8229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28800" y="685800"/>
            <a:ext cx="548640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43000" y="1030320"/>
            <a:ext cx="6934320" cy="4836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1066680" y="58672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b7"/>
                </a:solidFill>
                <a:latin typeface="Tahoma"/>
              </a:rPr>
              <a:t>www.treehugger.c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882720"/>
            <a:ext cx="6477120" cy="5137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295280" y="6019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b7"/>
                </a:solidFill>
                <a:latin typeface="Tahoma"/>
              </a:rPr>
              <a:t>www.johnniemoore.c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9080"/>
            <a:ext cx="8385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58800" y="1143000"/>
            <a:ext cx="3586320" cy="4781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62360" y="1143000"/>
            <a:ext cx="3872160" cy="480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609480" y="6095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fb7"/>
                </a:solidFill>
                <a:latin typeface="Tahoma"/>
              </a:rPr>
              <a:t>http://web.mit.edu/newsoffice/2008/adhesive-0218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onymous</dc:creator>
  <dc:description/>
  <dc:language>en-US</dc:language>
  <cp:lastModifiedBy>Anonymous</cp:lastModifiedBy>
  <cp:revision>0</cp:revision>
  <dc:subject/>
  <dc:title>Biomimicry: Integration Not Degradation</dc:title>
</cp:coreProperties>
</file>